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2682538" cy="71310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 Light"/>
              </a:rPr>
              <a:t>Click to move the slide</a:t>
            </a: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264D64-628D-4D5E-9946-E287CD74F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84D2C7-E11E-472F-82F1-EEE0B646F2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9536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00BE19-2F8D-459C-AF5B-8A6C665637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7973FB-4B5D-409E-81BF-AD8D2026EF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9536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E55F05-57F0-443E-A3DE-823144D78E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800" spc="-1" strike="noStrike">
              <a:solidFill>
                <a:srgbClr val="f9a12a"/>
              </a:solidFill>
              <a:latin typeface="Trebuchet MS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D375EB-C63C-4CAA-A369-BDAB8CB1A2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800" spc="-1" strike="noStrike">
              <a:solidFill>
                <a:srgbClr val="f9a12a"/>
              </a:solidFill>
              <a:latin typeface="Trebuchet MS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EAE7D9-1ABD-4D2A-B151-BAB2EF8366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800" spc="-1" strike="noStrike">
              <a:solidFill>
                <a:srgbClr val="f9a12a"/>
              </a:solidFill>
              <a:latin typeface="Trebuchet MS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EF33C6-338A-4564-A566-E8E3C7408B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f9a12a"/>
              </a:solidFill>
              <a:latin typeface="Trebuchet MS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18D09F-F483-4C44-85F0-7AE5DA1D4A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100" spc="-1" strike="noStrike">
              <a:solidFill>
                <a:srgbClr val="f9a12a"/>
              </a:solidFill>
              <a:latin typeface="Trebuchet MS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9BFD88-4FC3-4590-956E-5872830FEE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100" spc="-1" strike="noStrike">
              <a:solidFill>
                <a:srgbClr val="f9a12a"/>
              </a:solidFill>
              <a:latin typeface="Trebuchet MS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24B513-6057-4B7C-BAB8-EBBC94EA9E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f9a12a"/>
              </a:solidFill>
              <a:latin typeface="Trebuchet MS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A8C020-1EB2-49AA-AB24-119D10B1B3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80D882-D70D-421F-BAB3-08BF7AE260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26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B05BE6-8DE0-47F0-A432-E7B2514315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9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f9a12a"/>
                </a:solidFill>
                <a:latin typeface="Trebuchet MS"/>
              </a:rPr>
              <a:t>Zdrava pulpa – pulpa bez simptoma, odgovara pozitivno na testove vitaliteta, a ne pokazuje radiološke znakove patologij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f9a12a"/>
                </a:solidFill>
                <a:latin typeface="Trebuchet MS"/>
              </a:rPr>
              <a:t>Reverzibilni pulpitis – blaga upala pulpe gde termički nadražaji uzrokuju kratkotrajan i oštar bol koji prestaje kratko nakon uklanjanja nadražaja. Ne javlja se spontani bol, nije potrebno endodontsko lečenje već uklanjanje nadražaja poput karijesnih lezij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f9a12a"/>
                </a:solidFill>
                <a:latin typeface="Trebuchet MS"/>
              </a:rPr>
              <a:t>Ireverzibilni pulpitis – jaka upala pulpe koja nastaje iz netretiranog reverzibilnog pulpitisa, a ukoliko se ne leči prelazi u nekrozu pulpe. Može biti simptomatski i asimptomatski. Ukoliko se jave simptomi, to je obično neprovocirajuća, kontinuirana, oštra bol koja može biti lokalizirana ili difuzna. Potrebno je endodontsko lečenj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f9a12a"/>
                </a:solidFill>
                <a:latin typeface="Trebuchet MS"/>
              </a:rPr>
              <a:t>Nekroza pulpe – odumiranje pulpnog tkiva kao posledica nelečenog ireverzibilnog pulpitisa ili traume zuba usled prekida krvotoka. Najčešće je asimptomatska, gde zubi ne reaguju na termičke ili električne podražaje. Potrebno endodontsko lečenj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EE6B81-338B-471E-B6E0-E0777DD228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100" spc="-1" strike="noStrike">
              <a:solidFill>
                <a:srgbClr val="f9a12a"/>
              </a:solidFill>
              <a:latin typeface="Trebuchet MS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33BE9E-EA79-48BB-A368-6260917294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B09F49-43EA-46BE-B4F1-88F1277C74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800" spc="-1" strike="noStrike">
              <a:solidFill>
                <a:srgbClr val="f9a12a"/>
              </a:solidFill>
              <a:latin typeface="Trebuchet MS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5D0DC2-83E7-4BDA-B6FB-EE0C59D5F8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61FA-70E9-437B-A649-7637CC516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71200" y="426276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B46B-4174-48B5-98CD-58BCDDCF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47568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D068-EA5B-4237-9C26-DD98032AC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6948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26776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7120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6948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26776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36CD-06E0-4AED-8C9F-97DB13A4A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326D-58E4-484C-BBFE-91364229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6729-B2FF-42FE-8DB5-8D6554C6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6E6E-A240-4712-B2B2-CC0F899D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6538-2B76-4C46-AC78-32618956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71200" y="379440"/>
            <a:ext cx="1093788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37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103D-69F1-4EF0-878F-DF10131C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2720-D729-4FA9-BBD8-B0C50DB8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7568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3064-B6E9-4D92-BED0-5D696777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1FDB-8006-4804-BBDE-90E0A883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118728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66356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71560" y="6610320"/>
            <a:ext cx="2852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00120" y="6610320"/>
            <a:ext cx="4280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956800" y="6610320"/>
            <a:ext cx="2852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D13E03-39C2-4710-BD4D-FB1890932F6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39800" y="3133800"/>
            <a:ext cx="9713880" cy="1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800" spc="-1" strike="noStrike">
                <a:solidFill>
                  <a:srgbClr val="f8f8f8"/>
                </a:solidFill>
                <a:latin typeface="Trebuchet MS"/>
              </a:rPr>
              <a:t>OBOLJENJA PULPE</a:t>
            </a:r>
            <a:br>
              <a:rPr sz="4800"/>
            </a:br>
            <a:r>
              <a:rPr b="1" lang="sr-Latn-CS" sz="4800" spc="-1" strike="noStrike">
                <a:solidFill>
                  <a:srgbClr val="f8f8f8"/>
                </a:solidFill>
                <a:latin typeface="Trebuchet MS"/>
              </a:rPr>
              <a:t>MLEČNIH ZUBA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2340000" y="5479920"/>
            <a:ext cx="80010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37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DOC. DR RA</a:t>
            </a:r>
            <a:r>
              <a:rPr b="1" lang="sr-Latn-RS" sz="3100" spc="-1" strike="noStrike">
                <a:solidFill>
                  <a:srgbClr val="f9a12a"/>
                </a:solidFill>
                <a:latin typeface="Trebuchet MS"/>
              </a:rPr>
              <a:t>Š</a:t>
            </a: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A </a:t>
            </a:r>
            <a:r>
              <a:rPr b="1" lang="en-US" sz="3100" spc="-1" strike="noStrike">
                <a:solidFill>
                  <a:srgbClr val="f9a12a"/>
                </a:solidFill>
                <a:latin typeface="Trebuchet MS"/>
              </a:rPr>
              <a:t>J. </a:t>
            </a: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MLADENOVIĆ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0683720" y="2957400"/>
            <a:ext cx="609840" cy="23241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1292400" y="317520"/>
            <a:ext cx="1066932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3100" spc="-1" strike="noStrike">
                <a:solidFill>
                  <a:srgbClr val="000000"/>
                </a:solidFill>
                <a:latin typeface="Trebuchet MS"/>
              </a:rPr>
              <a:t>FAKULTET MEDICINSKIH NAUKA</a:t>
            </a:r>
            <a:br>
              <a:rPr sz="3100"/>
            </a:br>
            <a:r>
              <a:rPr b="1" lang="sr-Latn-RS" sz="3100" spc="-1" strike="noStrike">
                <a:solidFill>
                  <a:srgbClr val="000000"/>
                </a:solidFill>
                <a:latin typeface="Trebuchet MS"/>
              </a:rPr>
              <a:t>UNIVERZITET U KRAGUJEVCU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00120" y="1504800"/>
            <a:ext cx="971712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3600" spc="-1" strike="noStrike">
                <a:solidFill>
                  <a:srgbClr val="f9a12a"/>
                </a:solidFill>
                <a:latin typeface="Trebuchet MS"/>
              </a:rPr>
              <a:t>DEČJA</a:t>
            </a:r>
            <a:r>
              <a:rPr b="1" lang="en-US" sz="3600" spc="-1" strike="noStrike">
                <a:solidFill>
                  <a:srgbClr val="f9a12a"/>
                </a:solidFill>
                <a:latin typeface="Trebuchet MS"/>
              </a:rPr>
              <a:t> STOMATOLOGIJ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340000" y="6165720"/>
            <a:ext cx="80010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2600" spc="-1" strike="noStrike">
                <a:solidFill>
                  <a:srgbClr val="000000"/>
                </a:solidFill>
                <a:latin typeface="Trebuchet MS"/>
              </a:rPr>
              <a:t>MMXXII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2"/>
          <a:stretch/>
        </p:blipFill>
        <p:spPr>
          <a:xfrm>
            <a:off x="1539720" y="1814400"/>
            <a:ext cx="1219320" cy="10033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: Rounded Corners 8"/>
          <p:cNvSpPr/>
          <p:nvPr/>
        </p:nvSpPr>
        <p:spPr>
          <a:xfrm>
            <a:off x="10683720" y="138240"/>
            <a:ext cx="1219320" cy="990360"/>
          </a:xfrm>
          <a:prstGeom prst="roundRect">
            <a:avLst>
              <a:gd name="adj" fmla="val 16667"/>
            </a:avLst>
          </a:prstGeom>
          <a:solidFill>
            <a:srgbClr val="f45e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5400" spc="-1" strike="noStrike">
                <a:solidFill>
                  <a:srgbClr val="000000"/>
                </a:solidFill>
                <a:latin typeface="Trebuchet MS"/>
              </a:rPr>
              <a:t>07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8"/>
          <p:cNvSpPr/>
          <p:nvPr/>
        </p:nvSpPr>
        <p:spPr>
          <a:xfrm>
            <a:off x="853920" y="852480"/>
            <a:ext cx="367668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045040" y="1814040"/>
            <a:ext cx="644040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200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200" spc="-1" strike="noStrike">
                <a:solidFill>
                  <a:srgbClr val="f9a12a"/>
                </a:solidFill>
                <a:latin typeface="Trebuchet MS"/>
              </a:rPr>
              <a:t>Indikacije za pulpotomiju su zubi sa eksponiranom pulpom tokom ekskavacije karijesa ili traume zuba sa zdravom pulpom ili reverzibilnim pulpitiso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VITALNA PULPOTOMIJ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196640" y="1814040"/>
            <a:ext cx="1028844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200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200" spc="-1" strike="noStrike">
                <a:solidFill>
                  <a:srgbClr val="f9a12a"/>
                </a:solidFill>
                <a:latin typeface="Trebuchet MS"/>
              </a:rPr>
              <a:t>Kod amputacije pulpe koristi se rastvor 20%-tne koncentracije formokrezola (Buckley-eva formula)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200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FORMOKREZOL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196640" y="1814040"/>
            <a:ext cx="1028844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200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200" spc="-1" strike="noStrike">
                <a:solidFill>
                  <a:srgbClr val="f9a12a"/>
                </a:solidFill>
                <a:latin typeface="Trebuchet MS"/>
              </a:rPr>
              <a:t>U dodiru s pulpnim tkivom dolazi do hemijske reakcije između jona gvožđa, sulfata i proteina plazme. Time dolazi do aglutinacije proteina koji okludiraju kapilare površinskog sloja eksponiranog tkiva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FEROSULFAT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196640" y="1814040"/>
            <a:ext cx="1028844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200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200" spc="-1" strike="noStrike">
                <a:solidFill>
                  <a:srgbClr val="f9a12a"/>
                </a:solidFill>
                <a:latin typeface="Trebuchet MS"/>
              </a:rPr>
              <a:t>U kontaktu s vitalnim tkivom deluje kao iritans, što dovodi do upalne reakcije pulpe, diferencijacije novih odontoblasta i stvaranja dentinskog mosta na mestu eksponirane pulp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KH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196640" y="1814040"/>
            <a:ext cx="1028844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200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200" spc="-1" strike="noStrike">
                <a:solidFill>
                  <a:srgbClr val="f9a12a"/>
                </a:solidFill>
                <a:latin typeface="Trebuchet MS"/>
              </a:rPr>
              <a:t>MTA je biokompatibilan materijal s antimikrobnim učinkom, visoke pH vrednosti koji indukuje stvaranje tvrdnog zubnog tkiva na mestu primen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MT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196640" y="1967040"/>
            <a:ext cx="102884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200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200" spc="-1" strike="noStrike">
                <a:solidFill>
                  <a:srgbClr val="f9a12a"/>
                </a:solidFill>
                <a:latin typeface="Trebuchet MS"/>
              </a:rPr>
              <a:t>Ova metoda koristi elektrokoagulaciju eksponirane pulpe na ulazima u korijenske kanal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ELEKTROHIRURŠK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425920" y="1814040"/>
            <a:ext cx="605952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Indikacija su zubi sa gangrenom i nekrozom pulpe, te zubi kod kojih nije moguće postići hemostazu tokom pulpotomije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Kontraindikacije za pulpektomiju resoprpcija korena koja uključuje više od jedne trećine, zubi s unutrašnjom resorpcijom koren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PULPEKTOMIJ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87" name="Group 17"/>
          <p:cNvGrpSpPr/>
          <p:nvPr/>
        </p:nvGrpSpPr>
        <p:grpSpPr>
          <a:xfrm>
            <a:off x="1119240" y="2728800"/>
            <a:ext cx="3492360" cy="3148200"/>
            <a:chOff x="1119240" y="2728800"/>
            <a:chExt cx="3492360" cy="3148200"/>
          </a:xfrm>
        </p:grpSpPr>
        <p:sp>
          <p:nvSpPr>
            <p:cNvPr id="88" name="Arc 39"/>
            <p:cNvSpPr/>
            <p:nvPr/>
          </p:nvSpPr>
          <p:spPr>
            <a:xfrm flipV="1">
              <a:off x="1996920" y="2728800"/>
              <a:ext cx="1612800" cy="304560"/>
            </a:xfrm>
            <a:custGeom>
              <a:avLst/>
              <a:gdLst/>
              <a:ahLst/>
              <a:rect l="l" t="t" r="r" b="b"/>
              <a:pathLst>
                <a:path stroke="0" w="1000694" h="88552">
                  <a:moveTo>
                    <a:pt x="0" y="67121"/>
                  </a:moveTo>
                  <a:cubicBezTo>
                    <a:pt x="129665" y="51656"/>
                    <a:pt x="308935" y="4770"/>
                    <a:pt x="499161" y="4762"/>
                  </a:cubicBezTo>
                  <a:cubicBezTo>
                    <a:pt x="682146" y="4755"/>
                    <a:pt x="859951" y="50973"/>
                    <a:pt x="988788" y="65410"/>
                  </a:cubicBezTo>
                  <a:lnTo>
                    <a:pt x="487506" y="0"/>
                  </a:lnTo>
                  <a:lnTo>
                    <a:pt x="0" y="67121"/>
                  </a:lnTo>
                  <a:close/>
                </a:path>
                <a:path fill="none" w="1000694" h="88552">
                  <a:moveTo>
                    <a:pt x="2381" y="88552"/>
                  </a:moveTo>
                  <a:cubicBezTo>
                    <a:pt x="132046" y="73087"/>
                    <a:pt x="336269" y="41734"/>
                    <a:pt x="526495" y="41726"/>
                  </a:cubicBezTo>
                  <a:cubicBezTo>
                    <a:pt x="709480" y="41719"/>
                    <a:pt x="871857" y="58117"/>
                    <a:pt x="1000694" y="72554"/>
                  </a:cubicBezTo>
                </a:path>
              </a:pathLst>
            </a:custGeom>
            <a:solidFill>
              <a:srgbClr val="f45e44"/>
            </a:solidFill>
            <a:ln cap="rnd" w="444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9" name="Freeform 17"/>
            <p:cNvSpPr/>
            <p:nvPr/>
          </p:nvSpPr>
          <p:spPr>
            <a:xfrm>
              <a:off x="1119240" y="2939760"/>
              <a:ext cx="3492360" cy="2937240"/>
            </a:xfrm>
            <a:custGeom>
              <a:avLst/>
              <a:gdLst/>
              <a:ahLst/>
              <a:rect l="l" t="t" r="r" b="b"/>
              <a:pathLst>
                <a:path w="9700" h="8153">
                  <a:moveTo>
                    <a:pt x="2818" y="0"/>
                  </a:moveTo>
                  <a:cubicBezTo>
                    <a:pt x="2754" y="97"/>
                    <a:pt x="2699" y="184"/>
                    <a:pt x="2679" y="236"/>
                  </a:cubicBezTo>
                  <a:cubicBezTo>
                    <a:pt x="2096" y="1584"/>
                    <a:pt x="1447" y="2907"/>
                    <a:pt x="971" y="4300"/>
                  </a:cubicBezTo>
                  <a:cubicBezTo>
                    <a:pt x="556" y="5488"/>
                    <a:pt x="206" y="6704"/>
                    <a:pt x="0" y="7948"/>
                  </a:cubicBezTo>
                  <a:cubicBezTo>
                    <a:pt x="8" y="7974"/>
                    <a:pt x="21" y="8027"/>
                    <a:pt x="28" y="8053"/>
                  </a:cubicBezTo>
                  <a:cubicBezTo>
                    <a:pt x="42" y="8048"/>
                    <a:pt x="73" y="8038"/>
                    <a:pt x="87" y="8033"/>
                  </a:cubicBezTo>
                  <a:cubicBezTo>
                    <a:pt x="315" y="6939"/>
                    <a:pt x="683" y="5880"/>
                    <a:pt x="1077" y="4836"/>
                  </a:cubicBezTo>
                  <a:cubicBezTo>
                    <a:pt x="1645" y="3440"/>
                    <a:pt x="2543" y="1154"/>
                    <a:pt x="3720" y="237"/>
                  </a:cubicBezTo>
                  <a:cubicBezTo>
                    <a:pt x="3448" y="115"/>
                    <a:pt x="3151" y="30"/>
                    <a:pt x="2818" y="0"/>
                  </a:cubicBezTo>
                  <a:close/>
                  <a:moveTo>
                    <a:pt x="5844" y="206"/>
                  </a:moveTo>
                  <a:cubicBezTo>
                    <a:pt x="6076" y="382"/>
                    <a:pt x="6227" y="634"/>
                    <a:pt x="6473" y="949"/>
                  </a:cubicBezTo>
                  <a:cubicBezTo>
                    <a:pt x="7383" y="2098"/>
                    <a:pt x="8014" y="3441"/>
                    <a:pt x="8569" y="4792"/>
                  </a:cubicBezTo>
                  <a:cubicBezTo>
                    <a:pt x="8975" y="5873"/>
                    <a:pt x="9346" y="6970"/>
                    <a:pt x="9595" y="8100"/>
                  </a:cubicBezTo>
                  <a:lnTo>
                    <a:pt x="9700" y="8153"/>
                  </a:lnTo>
                  <a:cubicBezTo>
                    <a:pt x="9382" y="6067"/>
                    <a:pt x="8673" y="4062"/>
                    <a:pt x="7824" y="2137"/>
                  </a:cubicBezTo>
                  <a:cubicBezTo>
                    <a:pt x="7570" y="1492"/>
                    <a:pt x="7151" y="813"/>
                    <a:pt x="6852" y="125"/>
                  </a:cubicBezTo>
                  <a:cubicBezTo>
                    <a:pt x="6490" y="64"/>
                    <a:pt x="6163" y="122"/>
                    <a:pt x="5844" y="20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p:transition>
    <p:comb dir="ver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157040" y="1986120"/>
            <a:ext cx="102884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200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i="1" lang="en-US" sz="3200" spc="-1" strike="noStrike">
                <a:solidFill>
                  <a:srgbClr val="f9a12a"/>
                </a:solidFill>
                <a:latin typeface="Trebuchet MS"/>
              </a:rPr>
              <a:t>LESION STERILIZATION AND TISSUE REPAIR</a:t>
            </a:r>
            <a:r>
              <a:rPr b="1" i="1" lang="sr-Latn-RS" sz="3200" spc="-1" strike="noStrike">
                <a:solidFill>
                  <a:srgbClr val="f9a12a"/>
                </a:solidFill>
                <a:latin typeface="Trebuchet MS"/>
              </a:rPr>
              <a:t> </a:t>
            </a:r>
            <a:r>
              <a:rPr b="1" lang="sr-Latn-RS" sz="3200" spc="-1" strike="noStrike">
                <a:solidFill>
                  <a:srgbClr val="f9a12a"/>
                </a:solidFill>
                <a:latin typeface="Trebuchet MS"/>
              </a:rPr>
              <a:t>Regenerativni endodontski postupci imaju za cilj obnovu struktura zuba, a najčešće se primenjuje tri antibiotska pasta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687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700" spc="-1" strike="noStrike">
                <a:solidFill>
                  <a:srgbClr val="ffffff"/>
                </a:solidFill>
                <a:latin typeface="Trebuchet MS"/>
              </a:rPr>
              <a:t>Metronidazo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687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700" spc="-1" strike="noStrike">
                <a:solidFill>
                  <a:srgbClr val="ffffff"/>
                </a:solidFill>
                <a:latin typeface="Trebuchet MS"/>
              </a:rPr>
              <a:t>Ciprofloksacin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687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700" spc="-1" strike="noStrike">
                <a:solidFill>
                  <a:srgbClr val="ffffff"/>
                </a:solidFill>
                <a:latin typeface="Trebuchet MS"/>
              </a:rPr>
              <a:t>Minociklin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168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i="1" lang="sr-Latn-RS" sz="4300" spc="-1" strike="noStrike">
                <a:solidFill>
                  <a:srgbClr val="f8f8f8"/>
                </a:solidFill>
                <a:latin typeface="Trebuchet MS"/>
              </a:rPr>
              <a:t>LSTR / TAP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5501880" y="1833120"/>
            <a:ext cx="636444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1874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000" spc="-1" strike="noStrike">
                <a:solidFill>
                  <a:srgbClr val="f9a12a"/>
                </a:solidFill>
                <a:latin typeface="Trebuchet MS"/>
              </a:rPr>
              <a:t>Upoređujući mlečne sa stalnim zubima, promer krunice mlečnih zuba u meziodistalnom smeru je veći u odnosu na visinu krunice, a koreni su im duži i uži.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1874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000" spc="-1" strike="noStrike">
                <a:solidFill>
                  <a:srgbClr val="f9a12a"/>
                </a:solidFill>
                <a:latin typeface="Trebuchet MS"/>
              </a:rPr>
              <a:t>Cervikalna trećina krunice zuba sa oralne i vestibularne strane je prominentnija od istih strana stalnih zuba.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RAZLIKE MLEČNIH I STALNIH ZUB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5654160" y="1909800"/>
            <a:ext cx="63248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200" spc="-1" strike="noStrike">
                <a:solidFill>
                  <a:srgbClr val="f9a12a"/>
                </a:solidFill>
                <a:latin typeface="Trebuchet MS"/>
              </a:rPr>
              <a:t>Korenski kanali prednjih mlečnih zuba relativno su jednostavni, imaju malo nepravilnosti i lako se leče endodontski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1375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200" spc="-1" strike="noStrike">
                <a:solidFill>
                  <a:srgbClr val="f9a12a"/>
                </a:solidFill>
                <a:latin typeface="Trebuchet MS"/>
              </a:rPr>
              <a:t>Sistem korenskih kanala koji se nalazi u bočnim mlečnim zubima često sadrži mnoštvo lateralnih i akcesornih kanalića između kanala, što čini mehaničku instrumentaciju prilično teškom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MORFOLOGIJA KORENSKOG SISTEM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5425920" y="1909800"/>
            <a:ext cx="65930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200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200" spc="-1" strike="noStrike">
                <a:solidFill>
                  <a:srgbClr val="f9a12a"/>
                </a:solidFill>
                <a:latin typeface="Trebuchet MS"/>
              </a:rPr>
              <a:t>Medicinska i stomatološka anamnez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200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200" spc="-1" strike="noStrike">
                <a:solidFill>
                  <a:srgbClr val="f9a12a"/>
                </a:solidFill>
                <a:latin typeface="Trebuchet MS"/>
              </a:rPr>
              <a:t>Klinički pregled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200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200" spc="-1" strike="noStrike">
                <a:solidFill>
                  <a:srgbClr val="f9a12a"/>
                </a:solidFill>
                <a:latin typeface="Trebuchet MS"/>
              </a:rPr>
              <a:t>Analiza RTG snimk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2001"/>
              </a:spcBef>
              <a:buClr>
                <a:srgbClr val="f45e44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200" spc="-1" strike="noStrike">
                <a:solidFill>
                  <a:srgbClr val="f45e44"/>
                </a:solidFill>
                <a:latin typeface="Trebuchet MS"/>
              </a:rPr>
              <a:t>Testovi vitaliteta pulp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2001"/>
              </a:spcBef>
              <a:buClr>
                <a:srgbClr val="99cc00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200" spc="-1" strike="noStrike">
                <a:solidFill>
                  <a:srgbClr val="99cc00"/>
                </a:solidFill>
                <a:latin typeface="Trebuchet MS"/>
              </a:rPr>
              <a:t>Laser dopler flowmetrija / LD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495360">
              <a:lnSpc>
                <a:spcPct val="90000"/>
              </a:lnSpc>
              <a:spcBef>
                <a:spcPts val="2001"/>
              </a:spcBef>
              <a:buClr>
                <a:srgbClr val="99cc00"/>
              </a:buClr>
              <a:buFont typeface="Arial"/>
              <a:buChar char="•"/>
              <a:tabLst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8f8f8"/>
                </a:solidFill>
                <a:latin typeface="Trebuchet MS"/>
              </a:rPr>
              <a:t>DIJAGNOZ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5654520" y="1967040"/>
            <a:ext cx="65534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495360">
              <a:lnSpc>
                <a:spcPct val="9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Procena kooperativnosti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495360">
              <a:lnSpc>
                <a:spcPct val="9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Procena važnosti zuba za razvoj okluzij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495360">
              <a:lnSpc>
                <a:spcPct val="9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Procena stepena resorpcije korenova zub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495360">
              <a:lnSpc>
                <a:spcPct val="9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Procena mogućnosti oštećenja zametk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495360">
              <a:lnSpc>
                <a:spcPct val="9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Procena mogućnosti restauracije krune zub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Rectangle 27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8f8f8"/>
                </a:solidFill>
                <a:latin typeface="Trebuchet MS"/>
              </a:rPr>
              <a:t>PRE TRETMAN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196640" y="2271240"/>
            <a:ext cx="605772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200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200" spc="-1" strike="noStrike">
                <a:solidFill>
                  <a:srgbClr val="f9a12a"/>
                </a:solidFill>
                <a:latin typeface="Trebuchet MS"/>
              </a:rPr>
              <a:t>Zdrava pulpa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200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200" spc="-1" strike="noStrike">
                <a:solidFill>
                  <a:srgbClr val="f9a12a"/>
                </a:solidFill>
                <a:latin typeface="Trebuchet MS"/>
              </a:rPr>
              <a:t>Reverzibilni pulpiti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200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200" spc="-1" strike="noStrike">
                <a:solidFill>
                  <a:srgbClr val="f9a12a"/>
                </a:solidFill>
                <a:latin typeface="Trebuchet MS"/>
              </a:rPr>
              <a:t>Ireverzibilni pulpiti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200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200" spc="-1" strike="noStrike">
                <a:solidFill>
                  <a:srgbClr val="f9a12a"/>
                </a:solidFill>
                <a:latin typeface="Trebuchet MS"/>
              </a:rPr>
              <a:t>Nekroza pulp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KLASIFIKACIJA OBOLJENJA PULPE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196640" y="1509840"/>
            <a:ext cx="102884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200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200" spc="-1" strike="noStrike">
                <a:solidFill>
                  <a:srgbClr val="f9a12a"/>
                </a:solidFill>
                <a:latin typeface="Trebuchet MS"/>
              </a:rPr>
              <a:t>IP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200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200" spc="-1" strike="noStrike">
                <a:solidFill>
                  <a:srgbClr val="f9a12a"/>
                </a:solidFill>
                <a:latin typeface="Trebuchet MS"/>
              </a:rPr>
              <a:t>DP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200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200" spc="-1" strike="noStrike">
                <a:solidFill>
                  <a:srgbClr val="f9a12a"/>
                </a:solidFill>
                <a:latin typeface="Trebuchet MS"/>
              </a:rPr>
              <a:t>Vitalne pulpotomij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200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200" spc="-1" strike="noStrike">
                <a:solidFill>
                  <a:srgbClr val="f9a12a"/>
                </a:solidFill>
                <a:latin typeface="Trebuchet MS"/>
              </a:rPr>
              <a:t>Elektrohirurška pulpotomij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200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200" spc="-1" strike="noStrike">
                <a:solidFill>
                  <a:srgbClr val="f9a12a"/>
                </a:solidFill>
                <a:latin typeface="Trebuchet MS"/>
              </a:rPr>
              <a:t>Pulpotomija lasero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200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200" spc="-1" strike="noStrike">
                <a:solidFill>
                  <a:srgbClr val="f9a12a"/>
                </a:solidFill>
                <a:latin typeface="Trebuchet MS"/>
              </a:rPr>
              <a:t>Devitalizacijska pulpotomij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VITALNE METODE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5502240" y="2061720"/>
            <a:ext cx="598320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Cilj postupka se zasniva na sposobnosti unutrašnjeg sloja dentina da se remineralizira i na stvaranju uslova za lučenje reparatornog dentina kao odbrambenog odgovora pulpe na iritaciju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IPP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11520" y="1814040"/>
            <a:ext cx="697392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Postupak DPP na mlečnim zubima radi se na zubima sa zdravom pulpom u slučajevima tačkaste ekspozicije, koja nastaje prilikom uklanjanja karijesa ili kao posledica traume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Cilj postupka je očuvanje vitaliteta zuba i stvaranje dentinskog most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DPP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1:47:34Z</dcterms:created>
  <dc:creator>Rale</dc:creator>
  <dc:description/>
  <dc:language>en-US</dc:language>
  <cp:lastModifiedBy>kompjuterash</cp:lastModifiedBy>
  <dcterms:modified xsi:type="dcterms:W3CDTF">2023-02-17T16:45:55Z</dcterms:modified>
  <cp:revision>627</cp:revision>
  <dc:subject/>
  <dc:title>RTG U DEČJOJ STOMATOLOGIJI</dc:title>
</cp:coreProperties>
</file>